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8567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CFA-5F17-41B6-A8B9-3FCF811A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B8D-6080-4BFE-A68C-16454A81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6D0-A996-48A9-AA96-80F9C364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196-597F-47F1-A77D-012CFD11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D77-71F3-4F83-8B66-7BB879C2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7C8-6AAC-49DC-AF3C-33D7157D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11F-F32C-4448-B6CC-20F026C8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313-6F5B-4037-9F72-472F6EB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8C3-BF89-4205-ADA5-BAB1954D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E79-C150-445E-BB50-4F7E966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A56-3602-43D3-9090-4E5B5ABE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641-3A4E-478D-97D0-4D62F5A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D0182D65-8C2C-4967-8B52-6816AB4FE251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 and Introduction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anagement Organo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7925040" cy="5138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E37-C050-414B-B334-D39CEA0444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7315200" y="6019920"/>
            <a:ext cx="1828800" cy="838080"/>
            <a:chOff x="7315200" y="6019920"/>
            <a:chExt cx="1828800" cy="838080"/>
          </a:xfrm>
        </p:grpSpPr>
        <p:sp>
          <p:nvSpPr>
            <p:cNvPr id="105" name=""/>
            <p:cNvSpPr/>
            <p:nvPr/>
          </p:nvSpPr>
          <p:spPr>
            <a:xfrm>
              <a:off x="7391520" y="6019920"/>
              <a:ext cx="1752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15200" y="6477120"/>
              <a:ext cx="1720800" cy="25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Time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3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DD1-A6B6-4A80-BB60-22CBC8620D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Upd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ndum to the Consortium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ed by all partners and currently in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to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of Period 1 fu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Distribution (85%, early in the pro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of Period 1 (15%, mid-M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2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iting information from the 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will distribute 85% in early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E69-4091-44DE-AAF4-9E5AD8E972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nges to finances- SURFne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and ASTRON will be changing some of their financing.  Both organizations will push their SA2 budget directly to SURFnet.  SURFnet has agreed to th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was doing the actual work and expending the money; both JIVE and ASTRON were essentially "men in the middle."  This is due to the fact that SURFnet is both a partner and our N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is providing a great deal of support and work for the project.  This is not evident from a pure financial analysis.  We hope that this change will even some of their partic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otal, SURFnet will receive 28,000 EUR from JIVE and ASTR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DE8-4DD2-4F20-A6C4-37CC1D01E5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45D-8BB4-4710-A7BE-1B1157BEAA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ex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h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A01-79BB-4002-9245-037FBF9A2E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genda- General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.30 - 08.4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/Welcome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.45 - 09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/Changes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00 - 09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y Annual Review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30 - 09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/ NA4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50 - 10.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&lt;J. Conwa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05 - 10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&lt;J. Chev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20 - 10.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 WP1 &lt;R. Spenc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40 - 11.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10 - 11.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 WP2 &lt;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40 - 12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&lt;A. Szomoru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00 - 12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&lt;F. Colom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20 - 13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20 - 14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es + discussion + audit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30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Board meeting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up/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414-B025-4C50-B9E3-9A56550BD4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genda- Specific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Charles is not going to be presenting in person.  He may be interactive via telephone/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481-9FCC-459D-B6B4-1E77CCF04D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dministrivia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s taken by Diana van D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 to be requ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accepted via email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ts in the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w/r/t leaving the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FE8-E564-4908-BD03-459A811AC7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ubstitu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 Zensus sends Richard Porcas for MP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FB9-C3CE-4E4E-B881-BDBE30D7B6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x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Obta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represented by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8EC-9983-4B52-9FAD-6B386BD83D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oru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may validly mee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-thirds (2/3) of its members ar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repres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Partners, 13 individuals make 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ance/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657-D515-4671-B566-D0F6F50A7D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Chang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shall appoin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ail was sent at the beginning of the calendar year indicating that Huib Jan van Langevelde would be the interim Coordinator for EXP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Non-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man and Vice-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for upcoming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249-5A33-4A3C-B7E4-FC3DD2AEC9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21T15:06:11Z</dcterms:modified>
  <cp:revision>113</cp:revision>
  <dc:subject/>
  <dc:title>Slide 1</dc:title>
</cp:coreProperties>
</file>